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6AF-B9A5-4270-AAA6-C7A71843B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al &amp; written directions. If you don’t understand ask for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do any experiments without teacher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aisles clear, wash equipment, put notebooks in desk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6D4-727D-4C22-9B24-80B1E4B0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D87-AF16-4789-8E51-524ADDE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E4F-3CF4-434F-BBF6-7DB3F237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B04-5907-47FE-A0F2-23A48B50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7B15-693E-4A94-AE57-D6C50C97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E68-0E60-41F8-BC42-0F519E8E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EBB2-5070-493D-840E-040AF9FA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CB96-76A5-4E77-AAC3-6A49F9F8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2F4-B3E4-4DFA-AAFF-14AB3477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B7C7-5EE4-40EF-840B-DD88C07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99CB-561E-4808-A276-4E83808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3A6-78A3-44EB-ABF6-5083CD09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C04-F2A8-4F6F-9324-624E03D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5AB-BE4B-42BD-8418-7384CA59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DEF0-A7A5-4814-AA49-569DFE4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3D54-A6CC-4924-BD6A-8060464A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2A7B-C349-4493-84FA-DB590A04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F61-42CE-40CE-B7E4-59E4258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1EA-558F-40DE-B2B0-B2D8FC5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A54-BC04-44D7-A84E-AA60ED7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D66-53CE-4654-918F-67847E1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388-62DB-4FCE-984C-9A2DAC0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7D1-D58A-45D0-BFE4-799A753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660-62F9-4ACC-B368-6E9FDAC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e62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953-758C-4C84-BD67-BC7CE9A8F4A0}" type="slidenum"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A55D-D5D5-4072-BFFF-D5B74B25D5C7}" type="slidenum"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e622e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6d58"/>
                </a:solidFill>
                <a:latin typeface="Times New Roman"/>
              </a:rPr>
              <a:t>Safety In the Science Lab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37920" y="2971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6d58"/>
                </a:solidFill>
                <a:latin typeface="Times New Roman"/>
              </a:rPr>
              <a:t>Rules and Symbols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09880"/>
            <a:ext cx="1295280" cy="129564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1880" y="6858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1760" y="5410080"/>
            <a:ext cx="15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Ms. Ratley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Rm123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2010-2011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4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81080" y="1828800"/>
          <a:ext cx="5985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985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133720" y="1981080"/>
            <a:ext cx="990360" cy="9907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981080" y="2057400"/>
          <a:ext cx="609624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0962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133720"/>
            <a:ext cx="990720" cy="9903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ese Statements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1296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Hal says that his teacher is solely responsible for preventing laboratory accident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Keshia started the lab activity before reading it through completel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Ricardo decided to do a lab activity that he read about in a library book before the teacher came into the classroom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Stephanie says that the safety goggles mess up her hair and give her raccoon eyes. She refuses to wear them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Barbie and Ken accidentally break a beaker full of some chemical. Instead of risking getting in trouble they quickly clean up the mess with paper towel and throw it in the garbag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762120"/>
            <a:ext cx="761760" cy="7617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 To Do In An Emergency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2209680"/>
            <a:ext cx="914400" cy="83844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752480"/>
            <a:ext cx="7577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If there is a fire or fire alarm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Quietly get up and push in your chai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Walk toward the </a:t>
            </a:r>
            <a:r>
              <a:rPr b="0" lang="en-US" sz="2400" spc="-1" strike="noStrike" u="sng">
                <a:solidFill>
                  <a:srgbClr val="060502"/>
                </a:solidFill>
                <a:uFillTx/>
                <a:latin typeface="Times New Roman"/>
              </a:rPr>
              <a:t>outside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classroom doo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60502"/>
                </a:solidFill>
                <a:uFillTx/>
                <a:latin typeface="Times New Roman"/>
              </a:rPr>
              <a:t>Walk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to the basketball court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Quickly line up in alphabetical order by last nam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Remain in line until the drill is ove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Remain silent throughout the entire alarm so that all people can hear important direction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440" y="601992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9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266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350532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1808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Carefully read through the entire safety contract and sign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Have your parents read and sign your safety contract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Study for the safety quiz later this week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imes New Roman"/>
              </a:rPr>
              <a:t>Safety Firs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Science is a hands-on laboratory class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You will be doing many laboratory activities, which require the use of hazardous chemicals and expensive lab equipment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Safety in the science classroom is the #1 priorit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To ensure a safe science classroom, a list of rules has been developed and provided to you in your student safety contract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These rules must be followed at all times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A signed lab safety contract is required to participate in lab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33520"/>
            <a:ext cx="906480" cy="88416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General Safety Guideline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Be Responsible at All Times. No horseplay, practical jokes, pranks, etc.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971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Follow </a:t>
            </a:r>
            <a:r>
              <a:rPr b="0" lang="en-US" sz="2800" spc="-1" strike="noStrike" u="sng">
                <a:solidFill>
                  <a:srgbClr val="6e622e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 instructions carefully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7339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Do not play with lab equipment until instructed to do so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724280"/>
            <a:ext cx="761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Food, drink, and gum are not allowed in the science classroom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57200"/>
            <a:ext cx="762120" cy="7621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5560" y="57150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General Safety Guideline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"/>
            <a:ext cx="762120" cy="7621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Keep the science room clean and organized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5560" y="57150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4382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Notify the teacher </a:t>
            </a:r>
            <a:r>
              <a:rPr b="0" lang="en-US" sz="2800" spc="-1" strike="noStrike" u="sng">
                <a:solidFill>
                  <a:srgbClr val="e81808"/>
                </a:solidFill>
                <a:uFillTx/>
                <a:latin typeface="Times New Roman"/>
              </a:rPr>
              <a:t>immediately</a:t>
            </a: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 of any accidents or unsafe conditions in the science classroom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50532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Wash your hands with soap and water after experiments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6880" y="1676520"/>
            <a:ext cx="60962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ear safety goggles when working with chemicals, flames, or heating devices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If a chemical gets in your eye, flush in water for 15 minutes and notify the teach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0400" y="114300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Eye Protection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175248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44440" y="304812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Sharp Objects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00200" y="3657600"/>
          <a:ext cx="83808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657600"/>
                    <a:ext cx="838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971800" y="350532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hen using knifes or other sharp objects always walk with the points facing down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Cut away from fingers and bod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76520" y="5257800"/>
          <a:ext cx="92052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57800"/>
                    <a:ext cx="9205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296720" y="464832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Electric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5105520"/>
            <a:ext cx="5638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Do not place a cord where someone can trip over it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use electricity around wat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Unplug all equipment before leaving the room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106668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Anim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676520"/>
          <a:ext cx="10400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1040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048120" y="1600200"/>
            <a:ext cx="5638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Only handle living organisms with teacher permission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Always treat living organisms humanel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ash your hands after handling animal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6720" y="335268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Heating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52480" y="3962520"/>
          <a:ext cx="1067040" cy="10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962520"/>
                    <a:ext cx="106704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048120" y="3962520"/>
            <a:ext cx="5410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Tie back hair and loose clothes when working with open flame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look into a container as you are heating it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Heated metal and glass looks cool, use tongs or gloves before handling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leave a heat source unattended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10666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Chemic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1676520"/>
          <a:ext cx="99072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90920" y="1676520"/>
            <a:ext cx="6172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Read all labels twice before removing a chemical from the contain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touch, taste, or smell a chemical unless instructed by the teacher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Transfer chemicals carefully!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71600" y="4038480"/>
          <a:ext cx="9907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038480"/>
                    <a:ext cx="9907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145160" y="358128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Hand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4114800"/>
            <a:ext cx="5943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If a chemical spills on your skin, notify the teacher and rinse with water for 15 minute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Carry glassware carefull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0400" y="525780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Plant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5715000"/>
          <a:ext cx="838080" cy="8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715000"/>
                    <a:ext cx="8380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124080" y="563868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Do not eat any plants in lab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ash your hands after handling plant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Equipmen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re Blanket – By front Door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533520"/>
            <a:ext cx="838080" cy="7617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46280" cy="94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6680" y="25909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re Extinguisher – Located behind classroom door.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5760" y="385128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To operate the fire extinguisher rememb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-A-S-S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 Pull the Pin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Aim the hose at the base of the fire from 5-6  feet awa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Squeeze the handl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Sweep the hose back and forth across the fir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4720" y="5943600"/>
            <a:ext cx="50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1808"/>
                </a:solidFill>
                <a:latin typeface="Times New Roman"/>
              </a:rPr>
              <a:t>REMEMBER: Stop, Drop, &amp; Roll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1480" y="594360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On Fire?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362320" y="1752480"/>
          <a:ext cx="45734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5734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467480" y="342900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17:56:33Z</dcterms:created>
  <dc:creator>Page</dc:creator>
  <dc:description/>
  <dc:language>en-US</dc:language>
  <cp:lastModifiedBy>Cumberland County Schools</cp:lastModifiedBy>
  <dcterms:modified xsi:type="dcterms:W3CDTF">2010-08-19T14:53:28Z</dcterms:modified>
  <cp:revision>12</cp:revision>
  <dc:subject/>
  <dc:title>Safety In the Science Lab</dc:title>
</cp:coreProperties>
</file>